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B5D-CD6F-4AFF-A2C8-092DFAEC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68B-787A-474E-95F7-AC2EF87D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F9CA2-12C2-4962-BDA1-A4C674DF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E9259-0E38-4651-9F60-2133EDA8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E49F3-F7B9-422D-AE7F-3E4BD78A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FBB24-E199-4EE1-93F6-F6559C13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C7E77-391A-492A-A61B-B4A8C5A1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7F33E-7E84-428E-ACB7-EEA4B92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7782A-AEE3-4F8B-9057-643E93A7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E960E-788B-47C9-94F2-8137AB8B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A0D57-AE6A-4F2C-A64D-114B905B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7215F-1F8C-4C0E-84BE-E7C4F569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950-9E03-4E6B-A4C7-D019FFFB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0F3B6-E4D0-434B-A257-8F89E6F3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5FAE9-A2A3-4CC4-B052-C666C00D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D2D2A-1441-40BA-94AF-F6326D75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F2AB4-F5A8-4E5B-949B-E2F7AD31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A6039-3A99-4168-B2F4-47410162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2705D-79A5-48A2-80EB-AC2BE8EE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63836-AF63-452F-AA4C-2C9AE812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E00FB-2399-4319-B4A0-BC106F5A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323EB-2147-4078-A9F1-912C4B68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EBFE2-1D99-45E3-8899-7FC6D4D7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611-04DF-4273-81D9-EF3589E9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D4116-8191-4951-80E7-ECD3DF37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CFDC4-E447-49A8-8315-57E3F032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2343A-42CF-4E69-A22A-6C4CCF43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B8839-048A-4258-9484-E7D3AB02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39C3C-976D-404B-B5CE-CF8878DF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88632-600D-4EE2-B9AF-DE2CD824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FC7CD-1073-4A36-930E-89B11306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F4A9B-9D25-48C1-AC12-B7DB14C7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DFEEC-C856-4FCA-87B8-18C3665C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58460-0C5B-4EF2-836D-3D0A3B98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AC5C-55B7-4DB0-8522-28BE97F5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B5485-BB56-497F-A96B-27304B78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F6F35-A47E-46B5-9F3A-9FFD848B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6DEB3-37D0-459A-B891-4A1B57A8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160A3-E9B7-4F44-9861-A33DC092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6000C-66B5-40AE-8AF6-1C1F50DE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A135E-B71A-4C83-94E5-89108110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53804-CFDB-48D2-9957-9FDDAA8E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02C123-0C80-4685-B26A-EE69EDF2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1D3B9-D2BC-4855-80C0-00DFCF7B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17445-991E-4EEA-BC2A-1B5DAE5C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42CC-2169-4B28-BF40-44D224F2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0E774-C660-4041-9D33-D79E3415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8A25A-EA7B-437A-915C-5D08A42A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AD554-D573-4310-A8CC-F90C8CE1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26945-6FD7-43F0-AA68-3018369C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6E68F-B237-4266-B81A-5D13BD99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3F60A-2884-4FB5-A2C8-12B3F755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B9C1B-68A6-4E0E-B03F-1F86AC1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DBFE2-A979-4CC7-81E4-0AB82A10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AFE46-4D78-4EAA-B1B6-713636C3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67D9B-1426-4310-BFC8-0E5FAD47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5247-1E11-4159-8451-856A154F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54B4A-544F-4C42-AF8F-C52014CC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48452-5B47-45C5-B262-DA86CCB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F4F38-01E1-43BC-BFC4-C632B882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65029-7ACA-4E4D-839F-FD592A3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34D8F-4E15-4864-B93B-834DF959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B2E09-988C-403D-8892-D7F89D43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575DD-1894-4B94-B975-F305E616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F9350-DD34-4751-AA75-B0ED3545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DF184-716A-414A-B0D7-B193055B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4D27A-382B-4E27-A5DC-AB5C0C84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80B5-A63A-486B-85DA-A4A4206B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91FC4-F179-43EB-9398-010D3ADA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F8F27-72DD-4FE3-A304-36E377C2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C1858-9C69-488D-BAF3-88915E9F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B1606-4D25-4593-A410-92E02368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2002D-39FC-4725-B477-731EFAC0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A7D72-6A9A-416B-8BAA-5C4F83F6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059DE-6753-48C4-8874-97BA6A6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DBCF8-060A-40E8-8044-48491DCA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68BD2-E0C9-46AD-9BA7-9CE8D975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F94CF-73FF-4483-9B3F-192A9558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53CA-D733-4997-9910-F05F5463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3231B-41B4-43A5-AA5F-B8601B00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E0809B-2A5A-4043-9606-D060DB11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C7C8B0-C003-45FB-B951-B2047D3E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497D2-E289-4F67-8F40-8A5643B1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7EC59-7CCD-4B7E-AF35-A77EA166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E78939-4E71-41CF-88FE-89D8D949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5A527B-AA23-43B9-A80D-BDAAA555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0C578-DC83-4105-AB76-1D1EF3E3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D6F4D-B3CB-4F03-8F4A-D93A7984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F13ED-3614-4157-BF77-82871C6A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8816-9E1D-4B2B-80CD-836D4BE0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BCCCF-5C00-4527-B773-EC2247B6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F08F8-FA07-463C-8272-864DC100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09BDC-128C-40E3-936A-85619B8C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BFF6B-DC0B-42DE-9731-91266C5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45850B-479E-42D0-A89A-09165D6D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408A0-3F7C-4F00-A5A4-1FC9AEC4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8DB78-8A59-4BB1-8777-3C42A2CF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81403-4C59-4DC5-97D9-29AD4A0B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EAB17-ACD8-4F06-B7B3-51C35011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362C8-D213-4945-A06C-91663494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D5F3-2E14-4BF8-9996-78A67124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DF3E8-22DE-4E2D-A75E-07F81B6F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91333-2807-47C7-86A0-316923E7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0513E-352A-4004-94CD-1B1CF426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03E96-D8A4-4570-92AB-B5E393B3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00D43-4639-41D4-B7B3-33453922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C1FC0-E629-452B-96B5-247C4B9B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0166F-FB06-441C-9E22-339FC3D3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CC7FF-C170-4473-A656-29C31D42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7831D-8EAA-46BD-AB6F-942BE104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B05A5-27F8-4A2A-B0B1-4132AD5E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C62-952F-49D4-A677-B7608299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24E8-160E-4E93-9892-7D4322A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961B2-EA75-4D0A-B2D8-9C316A5A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01EEEE-3CB3-411E-A556-811CBCE9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60F9F-42AE-4992-B099-42EFDF8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453344-130D-4E49-A55D-7AD90D30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065E1-58CF-4D82-81E1-7E4A9C5B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B1867-533B-4360-A05B-7B97C5DC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70F6B-88DC-4AD2-BA67-B56B4DFA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D98C3-3ECC-4DD8-817E-CE2B77B8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CA954C-60B6-4D86-9742-D95D5E29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EA45C-CB8B-4C47-89A8-13224DE5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16B9-17B6-4182-8F45-F3D2D3A0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9C53E6-0727-4FE9-802B-DBCE2E0A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79273-9EFE-4297-92A2-1D4CEB1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097D0C-269C-4E1C-904D-22D49C07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E42553-1586-414A-AD94-17E62FE1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2F504-DBD6-4472-A2D3-A8CED6F2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40049-10A4-47A2-8373-FF8A1990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1EE3B-E140-40C2-8D63-802F2461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4E0AF4-BA07-4A4E-B081-CFA5C819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8495B-367E-4521-B30E-22E8E866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00F40-8A59-4648-8D9E-911928D5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BE28-811D-477C-A934-4A00EF70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57D16-2E8F-467B-A783-00E6B2BB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488FEC-CDAD-4880-A51D-499E16F9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DB1F1-8E2B-47EF-A4AF-477EA5F0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345A4-A0D4-4AF1-BAE5-66396285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705AAD-650A-43B6-B80B-1680321B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C84478-F403-419D-8568-FDCFE947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6404B-7861-471A-BE90-F278EA19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69CC1-730A-4B7F-9FA0-75FF0A81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B7D20-2832-43F6-9B3F-4E1CCCF0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4C8502-66DD-417F-A7B7-8E4B22D7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4459-3DCD-4BD6-A800-9BDE4613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D2ACCF-EB01-4C8A-BE3F-D2A767E1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A3DC5-5BE4-41D8-8E7C-DC6427E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8D7E33-9452-4179-AC05-ECC6CE54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F8DF9-71A4-49E0-B05A-9D6E4436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6523EF-52E0-4F34-B1CE-A0429584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8A5187-F0D6-4F4D-A3E9-3254513F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27028-81CF-4910-8675-947DC74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B98BA-301A-4486-902C-3E749739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DB4F85-8F67-483A-ABB4-DEE851C8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DCC450-8772-49A5-8CD5-A9B791DD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086D-3030-429F-8F20-E728B091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2D631-B57B-4369-8F15-7449A01C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F5E032-D68D-4009-88DA-861B27D4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73E033-43A6-445E-9FE1-BE4FC07B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DD5FA7-6C5A-4B29-9DCF-FB02EDF0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01C30-4920-4277-802F-A539DD5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9F934-9738-430F-901A-5360010E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E65CA1-E13A-4015-919E-7065148A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1EAA23-7D22-49AA-A584-F33187A4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F4EE7-D647-4FCD-A7C6-FF577080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BA459C-33E2-47D4-908F-3059BB5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6036-8A7B-4FC3-9CBA-FA7F22DC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5C481-5175-49D0-B090-C49296BE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5F3484-AB74-48AE-967A-4DE417C0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C811A-E02D-4A7C-B624-9BB41EAB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FA2D-F78F-41FE-AE57-1BDD4DB0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AF5D3-A144-42B0-8006-A09E1FE5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339F3-B429-48C8-841F-F9547538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A8E0D-0174-4322-9ED0-44965EEF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D21-58D9-4A1A-AA62-35451F9A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572E-F4D5-4A08-B372-A9C146A5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091F-6B7D-4F71-8076-EAE6751D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E78B7-7631-4F9B-BADE-28F216DF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150A-C7AB-4B84-BDE6-686F71D4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FF1BC-3468-47E3-9CAF-2B6ACA3A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CB53-60D6-4023-9C05-889F2773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7302-346F-4846-960B-1BC523B3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8380-0DF6-45A3-99E9-8822D89D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5A779-4AC8-4363-B54C-43439281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C95EB-E7AF-4DA0-B81E-2F9071A4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25C-7E4A-467E-8035-60C5DEE3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770BC-C71E-47AF-AB71-2AAB6F72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DA5A-C42F-4E78-A795-06C46AA7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5AE7-867F-45E2-AC1B-5EEC2FBB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83F7A-A5BA-49D2-996E-0A4C1C80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1A2BA-3A57-47AF-A2E0-A72CF62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879A-51FB-4F5D-9734-B6BB03DA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8157-FB32-472F-9B04-0A226E11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C759-E3B7-4068-AC1E-51674757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8D38-F81A-4954-B3DE-CD1DA9E7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421C-B684-423B-9972-0C705AA6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BB8-6F90-4784-8CAC-E69E70D4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BF48D-0AA2-4BC2-868B-680A5563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2667-41EB-4908-8AEC-E5E93D04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9EA68-3F81-4C91-948D-81289902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3F91-45EF-40E7-9B85-988B5540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D80EE-FACC-45BC-A87C-2CCFF4BE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19E8-3718-4801-BF1A-BE11F83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0BBA-B595-4839-83BA-7BB57640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42C24-AB5F-4A1D-B2E2-27A2623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90B54-78B4-44FB-9477-36A2E11F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4C62-444A-4185-B4DA-4ECEE4ED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F3D-8D5C-4E20-A241-3C19402D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B3D8-4231-40BB-B225-DA973925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C0403-7CBC-41BB-A069-38E95D2E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C5300-4D67-4741-B004-4103BAEA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12F2A-CAB5-46BF-B073-BF12666B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E4B28-270E-44BC-AE4E-5985F451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33CEB-5ECF-4597-AEF2-2FE25B2B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BB446-E673-4833-A676-49365A3B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0ABB4-F574-4823-9F01-AEE4AE9F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9BC4-D9A9-4D29-A7F7-4784892F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87C52-DD58-4414-8BA6-D9F25B5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77A-C5F4-4447-A5EB-2A05D06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E3DC-78F2-44CE-9B1A-F33D7921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F3522-9579-4BD5-A7BC-CBCA7773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8EDA8-FD17-46A7-A6E5-8839E1A9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D14A2-0AFC-41CE-AAA0-6C9C9823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A86EE-3935-42D1-8F40-A13853FB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FCF2B-F3A9-4F32-A046-01C8ED52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196D-9B8C-47B6-B009-502FA6EC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E205C-FAD6-40C6-A23C-CCB35781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DD752-49E2-4DDB-9751-BC7BE3E7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D69F5-9F3B-4B26-B337-E1ABADB5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5C4-3277-433D-A4EA-18CC9FDD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068A9-705F-4791-8089-A86C880C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0AEF6-5E6F-44CA-997C-BD6A8946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E37A8-CE8D-4D51-8051-5709CD1E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5EC0E-5CE8-4686-AF5F-11CE0708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2BD41-476D-4431-BFDE-AE60ED39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F3216-E203-4D81-8735-8F52F3C0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BADA7-FB57-45B8-BB29-A2D42465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52185-3A4B-4291-AEDA-ACC625D7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6227A-AAE6-46A4-8FFE-A75BB8D5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4E773-6517-4FCF-8303-35F2888A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904-6B2A-4440-B407-1E10342F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C2C0A-ECAF-4998-93ED-8B13C22F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2910A-BFD0-40FD-ADE1-6CB222E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265C3-425E-4BDF-85A1-509FBC64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6E289-4B19-4ABF-8824-DA1223A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90814-3244-4D65-91C3-82CC1F13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16DD9-8D4A-4541-8B4F-60D55241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11C4-8B12-4230-997D-1A131A24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EDCDA-A66A-465D-BCD0-47E8B946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EC74A-CE60-4CF8-B91B-852D2E77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A5EFB-2A70-4E88-A796-DBB6CA03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7713-12C6-42D8-9B98-6ED40145E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0AF3-12CC-436B-9077-28B7094962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4AE-1EAB-4572-B819-0D94CD2451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B3F0-FACF-4BBA-83E4-788C31454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EBAF-7CB8-4F1D-A38E-AC043E1962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546F-6822-484B-8F4F-0AD3AE295C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475-EA25-47DB-A432-F7A1A9899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3DD7-482B-4102-A2D1-9888E75B4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5E41-5C76-48D1-BEA3-7E6689A1E3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A0F5-A73F-4BE1-BAE9-DDCEA55380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12EA-35A4-4A66-BA4C-BDE8C5676C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F178-14DB-4662-B9CF-6DD23F0D93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6D9B-70D1-4950-B2A2-6A52B2997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3812-FA21-4893-A1C4-AF7F1D41A5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571F-CE06-469B-8447-03542923C1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4DF5-EB38-429D-BCDD-5C951F3CE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BDD3-CA89-4790-961C-876DC9AAC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378D-51A7-4560-B5C0-F1A355D76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D4A4-1A51-4C56-A3FC-6031D2736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82D0-7239-4B05-ABAF-04C44A9FFB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ACBE-3D0C-4E77-9639-41690E74A2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459B-05DF-45B8-8C37-30CD82F445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7B3A-4625-44AC-9A9D-383920C8A4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64F-DF8C-433A-9A5D-DBFB7F4D94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44C0-A83F-48BD-9F00-A774CEF359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36D9-AEA8-4D26-8DAF-3943873379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FCD5-2602-436D-9612-E531B6A0FF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7B99-E3D7-434E-BFA4-B37DE7C42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9239-B623-42B9-8AF8-7330AE138A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57F9-8371-4ACE-8F8F-ED888776BA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65D0-A616-4975-843E-B805989173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076D-45A9-4C4E-B5AB-D243EE63FE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EDD-441B-4DB1-BD07-62F79087B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B89D-7FD1-4A34-BE9F-65B4315711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03A5-72B8-42C8-9900-3DB600AACF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0156-F8BD-44AA-B966-23ED7EDC7B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3D50-5628-48E3-82C4-54C5259516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2BBD-7B4E-4CB4-A1E5-B6749390B1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14D5-2E5C-49F6-8AF3-752C39514A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1A87-4A69-4509-9B0A-854B6436DC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33480" y="3100320"/>
            <a:ext cx="90756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114480" y="1504800"/>
            <a:ext cx="8915400" cy="3848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16000" y="3213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376200" y="2048040"/>
            <a:ext cx="8389800" cy="2761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54120" y="2060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71360" y="2066760"/>
            <a:ext cx="8801280" cy="2724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116000" y="26082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116000" y="31701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116000" y="37609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1116000" y="43070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33280" y="1762200"/>
            <a:ext cx="8675640" cy="33336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114560" y="23320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1187280" y="2924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1187280" y="3500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187280" y="40194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1116000" y="458136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285840" y="1371600"/>
            <a:ext cx="8572320" cy="41148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2124000" y="3587760"/>
            <a:ext cx="505080" cy="3762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6084720" y="4811760"/>
            <a:ext cx="50508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4:0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